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975B-A028-47E6-9767-8B95B37A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BFC-CEFD-4561-B710-6EDF8CBA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AE6-8B40-41E2-BB12-4ADE58B7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9504-B96A-4339-9BFE-2EF079FA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215-BA6D-475A-9772-7B475C05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913-ED79-4DE7-8AA4-120F37B2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73F-9F08-4D02-A857-D0AE9062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632-AA3E-4DDF-8E0B-A3C40379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F24-40DD-4FFE-9502-884249E3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541-0502-4EC0-8F3B-4D930E56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E05-DC9D-4A0C-803A-759B2417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C0A-36B9-4806-AB38-24853AF4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C59D-C97D-4CEE-BA8A-1D552BCF4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oogle.com/imgres?imgurl=http://www.fullissue.com/wp-content/uploads/Vladimir-Lenin.jpg&amp;imgrefurl=http://www.fullissue.com/index.php/vladimir-lenin-biography-1870%25E2%2580%25931924.html&amp;usg=__F0xk17O-KlyIVHwG2IdGRMGFv_Y=&amp;h=446&amp;w=320&amp;sz=24&amp;hl=en&amp;start=4&amp;zoom=1&amp;itbs=1&amp;tbnid=lqmKSGM_Z6UZeM:&amp;tbnh=127&amp;tbnw=91&amp;prev=/images%3Fq%3Dvladimir%2Blenin%26hl%3Den%26gbv%3D2%26tbs%3Disch: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40000"/>
                </a:solidFill>
                <a:latin typeface="comic"/>
              </a:rPr>
              <a:t>Russia history 1918-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f21"/>
                </a:solidFill>
                <a:latin typeface="Bauhaus 93"/>
              </a:rPr>
              <a:t>By: S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f21"/>
                </a:solidFill>
                <a:latin typeface="Bauhaus 93"/>
              </a:rPr>
              <a:t>     </a:t>
            </a:r>
            <a:r>
              <a:rPr b="0" lang="en-US" sz="3200" spc="-1" strike="noStrike">
                <a:solidFill>
                  <a:srgbClr val="dfff21"/>
                </a:solidFill>
                <a:latin typeface="Bauhaus 93"/>
              </a:rPr>
              <a:t>Bi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f21"/>
                </a:solidFill>
                <a:latin typeface="Bauhaus 93"/>
              </a:rPr>
              <a:t>      </a:t>
            </a:r>
            <a:r>
              <a:rPr b="0" lang="en-US" sz="3200" spc="-1" strike="noStrike">
                <a:solidFill>
                  <a:srgbClr val="dfff21"/>
                </a:solidFill>
                <a:latin typeface="Bauhaus 93"/>
              </a:rPr>
              <a:t>O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f21"/>
            </a:gs>
            <a:gs pos="100000">
              <a:srgbClr val="6675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80880" y="19080"/>
            <a:ext cx="9829800" cy="6838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of soivet un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vember 1917 the russian government was over throw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Vladimir Lenin</a:t>
            </a: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dopted the government of</a:t>
            </a: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1800" y="3352680"/>
            <a:ext cx="25909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941- grermans invade soivet Late 1940’s soivets gain control of Eastern Europe u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942-1943- soivets prevent capture of Stalingr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945- soivets capture Berl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75444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ld war was from 1945-1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viet union competed against the U.S.A. for nuclear power and a man to the moon.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ivet union almost won by sending Sputnik in space to orbit around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viet Union almost got to the moon first but the U.S.A sent Apollo 11 to the moon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43200" y="5334120"/>
            <a:ext cx="624852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good and the ba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eatles visited russia in the 1960’s and made a song called back in the U.S.S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ere first in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D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lions of people died In world war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Nuclear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Gaint nuclear reactor mel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Chernobyl had a nuclear reactor exploded and caused many deaths, and the soil was unsafe to plant on and the babies had birth defects. &gt;_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8229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de Latin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5105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3733920" cy="2971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seph sta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d won out over the others and became the Soviet Unions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lin also set up  plans that took  five-years to industrialize the country. these were programs that set goals for the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943600" y="4191120"/>
            <a:ext cx="2724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8:32:43Z</dcterms:created>
  <dc:creator> </dc:creator>
  <dc:description/>
  <dc:language>en-US</dc:language>
  <cp:lastModifiedBy> </cp:lastModifiedBy>
  <dcterms:modified xsi:type="dcterms:W3CDTF">2010-12-20T17:13:25Z</dcterms:modified>
  <cp:revision>8</cp:revision>
  <dc:subject/>
  <dc:title>Russia history 1918- 2010</dc:title>
</cp:coreProperties>
</file>